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F50A-E53C-44AC-A596-227FB8A10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7F54-C257-4A64-B7F9-7699A2260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70A4-FF57-42A1-907C-5DFD437B7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DE4D-C7AF-4D72-80F3-8B1A281F4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3A63C-04EB-4FD0-AEE8-788012F7A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9A4F6-6CDE-43B7-BC8D-31594DB26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6D935-67CF-4794-BAF0-F9EF94DA7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34FEF-7255-4210-A98A-FEBC24910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3348E-A977-439D-A70B-AB2AEDD0D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E39AC-D7EA-4524-BEC0-A1334D7E1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F0383-F277-4303-A603-DB593F9DF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54BC-77B9-4647-9E5B-EBB19DD5E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64FCD-A408-41B8-90A1-F9908662C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3987D-A200-4DC6-9046-EDA7A7C8A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174E1-99CD-4F1A-A340-0100A43D7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282F1-3ED9-4614-AD5A-5BE385349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04CFF-57C3-4956-8F6C-0D1CE647B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064C-1AFE-43BB-9C12-251A9649E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6A08-8E0E-4539-BAA9-E677DA74C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19F8-DAF3-40CE-919D-215973FA4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B17F-5164-4728-A42C-D426BD81D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6BEB-7F19-4220-BC5D-A0C971CDF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3FC9-20C3-434D-B461-D5672A123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97B0-AAAE-4BC8-B3D2-B6A166787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36363-DFB8-47B7-9031-1AC0BEFC2B9A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9551A-4702-4409-B5A1-0FA7E5F29007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w To Use PowerPoint</a:t>
            </a:r>
            <a:br>
              <a:rPr sz="36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 Brief Introduction to Commonly Used Featur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vanced AutoShap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8" name="Group 19"/>
          <p:cNvGrpSpPr/>
          <p:nvPr/>
        </p:nvGrpSpPr>
        <p:grpSpPr>
          <a:xfrm>
            <a:off x="1981080" y="4800600"/>
            <a:ext cx="1523880" cy="1143000"/>
            <a:chOff x="1981080" y="4800600"/>
            <a:chExt cx="1523880" cy="1143000"/>
          </a:xfrm>
        </p:grpSpPr>
        <p:sp>
          <p:nvSpPr>
            <p:cNvPr id="99" name="AutoShape 4"/>
            <p:cNvSpPr/>
            <p:nvPr/>
          </p:nvSpPr>
          <p:spPr>
            <a:xfrm>
              <a:off x="1981080" y="4800600"/>
              <a:ext cx="1523880" cy="1143000"/>
            </a:xfrm>
            <a:prstGeom prst="flowChartProcess">
              <a:avLst/>
            </a:prstGeom>
            <a:solidFill>
              <a:srgbClr val="99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Text Box 10"/>
            <p:cNvSpPr/>
            <p:nvPr/>
          </p:nvSpPr>
          <p:spPr>
            <a:xfrm>
              <a:off x="2057040" y="518184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On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1" name="Group 22"/>
          <p:cNvGrpSpPr/>
          <p:nvPr/>
        </p:nvGrpSpPr>
        <p:grpSpPr>
          <a:xfrm>
            <a:off x="5638680" y="4800600"/>
            <a:ext cx="1523880" cy="1143000"/>
            <a:chOff x="5638680" y="4800600"/>
            <a:chExt cx="1523880" cy="1143000"/>
          </a:xfrm>
        </p:grpSpPr>
        <p:sp>
          <p:nvSpPr>
            <p:cNvPr id="102" name="AutoShape 6"/>
            <p:cNvSpPr/>
            <p:nvPr/>
          </p:nvSpPr>
          <p:spPr>
            <a:xfrm>
              <a:off x="5638680" y="4800600"/>
              <a:ext cx="1523880" cy="114300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Text Box 13"/>
            <p:cNvSpPr/>
            <p:nvPr/>
          </p:nvSpPr>
          <p:spPr>
            <a:xfrm>
              <a:off x="5714640" y="51814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Tw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4" name="Group 21"/>
          <p:cNvGrpSpPr/>
          <p:nvPr/>
        </p:nvGrpSpPr>
        <p:grpSpPr>
          <a:xfrm>
            <a:off x="3505320" y="4724280"/>
            <a:ext cx="2133000" cy="1202760"/>
            <a:chOff x="3505320" y="4724280"/>
            <a:chExt cx="2133000" cy="1202760"/>
          </a:xfrm>
        </p:grpSpPr>
        <p:grpSp>
          <p:nvGrpSpPr>
            <p:cNvPr id="105" name="Group 20"/>
            <p:cNvGrpSpPr/>
            <p:nvPr/>
          </p:nvGrpSpPr>
          <p:grpSpPr>
            <a:xfrm>
              <a:off x="3505320" y="5029200"/>
              <a:ext cx="2133000" cy="609480"/>
              <a:chOff x="3505320" y="5029200"/>
              <a:chExt cx="2133000" cy="609480"/>
            </a:xfrm>
          </p:grpSpPr>
          <p:sp>
            <p:nvSpPr>
              <p:cNvPr id="106" name="AutoShape 5"/>
              <p:cNvSpPr/>
              <p:nvPr/>
            </p:nvSpPr>
            <p:spPr>
              <a:xfrm>
                <a:off x="3962160" y="5029200"/>
                <a:ext cx="1142640" cy="609480"/>
              </a:xfrm>
              <a:prstGeom prst="flowChartDecisi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7" name="Line 7"/>
              <p:cNvSpPr/>
              <p:nvPr/>
            </p:nvSpPr>
            <p:spPr>
              <a:xfrm>
                <a:off x="3505320" y="5333760"/>
                <a:ext cx="4568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8" name="Line 8"/>
              <p:cNvSpPr/>
              <p:nvPr/>
            </p:nvSpPr>
            <p:spPr>
              <a:xfrm>
                <a:off x="5105160" y="5333760"/>
                <a:ext cx="53316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09" name="Text Box 14"/>
            <p:cNvSpPr/>
            <p:nvPr/>
          </p:nvSpPr>
          <p:spPr>
            <a:xfrm>
              <a:off x="3733560" y="4724280"/>
              <a:ext cx="15998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Research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&amp;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Developmen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selecting several AutoShapes and right-clickig, you can group them togeth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mbedding Vide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48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Play a Video in Your Slide Show, go to “Insert” and Place your Mouse Over “Movies and Sounds” then Select “Movie From File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slide.mpg" descr=""/>
          <p:cNvPicPr/>
          <p:nvPr/>
        </p:nvPicPr>
        <p:blipFill>
          <a:blip r:embed="rId1"/>
          <a:stretch/>
        </p:blipFill>
        <p:spPr>
          <a:xfrm>
            <a:off x="5486400" y="3451320"/>
            <a:ext cx="3044880" cy="2028600"/>
          </a:xfrm>
          <a:prstGeom prst="rect">
            <a:avLst/>
          </a:prstGeom>
          <a:ln w="0">
            <a:noFill/>
          </a:ln>
        </p:spPr>
      </p:pic>
      <p:sp>
        <p:nvSpPr>
          <p:cNvPr id="11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4979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21:18:44Z</dcterms:created>
  <dc:creator>user</dc:creator>
  <dc:description/>
  <dc:language>en-US</dc:language>
  <cp:lastModifiedBy>Miral</cp:lastModifiedBy>
  <dcterms:modified xsi:type="dcterms:W3CDTF">2015-09-13T10:22:33Z</dcterms:modified>
  <cp:revision>33</cp:revision>
  <dc:subject/>
  <dc:title>Test PowerPoint FIle</dc:title>
</cp:coreProperties>
</file>