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4329D-6BAB-426C-A9C1-3D0613134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DCEE7-3731-438B-B570-44BD5F1AE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069D2-B51D-419E-A6D9-8D947D688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E5894-C543-4CD4-9295-39E7DF47C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EE819-FCCA-4A82-B967-8482FC76F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FC7DB-A543-45C0-A4AE-5C0DB44DB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5B1BC-078B-4D35-ABA0-CC7D9DBFE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18375-C61A-45BB-B0CE-7B5B1BE4A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5126C-0A08-4BDD-A8A5-D2E347AD7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0A301-EF56-44FF-9526-FEA8AD151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A11B3-7743-44FB-BAE1-D054FA2E1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15098-69E3-4328-AFA4-E6016E38D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760D9-D2D6-455B-B603-A462865C7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E1EF1-DEF6-45FB-A33C-0BE76D41A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BD8C1-CB47-405A-885B-9C6B14E6A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03E2C-89DF-4A02-A160-DC6C240A2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AC91E-AD57-45E7-A61C-70DFA7B99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B8F40-5132-407F-89B4-D9A14F8D7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308D0-BD1F-49CF-A910-558479716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49E37-6590-4CA5-8060-BF228AF7B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7E3ED-372F-4337-92C3-A2CCD0033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2A11D-BB02-4974-8823-3BB5AB705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BBF92-9DBD-45F4-A69E-94B16AD05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AEE6B-1AB5-4C04-B0F4-872D54FE1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0BB13-5C0C-493C-9597-FB093C568193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87170-2CDC-429F-98C3-BEBDA5BDAC6A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How To Use PowerPoint</a:t>
            </a:r>
            <a:br>
              <a:rPr sz="3600"/>
            </a:b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A Brief Introduction to Commonly Used Features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dvanced AutoShap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98" name="Group 19"/>
          <p:cNvGrpSpPr/>
          <p:nvPr/>
        </p:nvGrpSpPr>
        <p:grpSpPr>
          <a:xfrm>
            <a:off x="1981080" y="4800600"/>
            <a:ext cx="1523880" cy="1143000"/>
            <a:chOff x="1981080" y="4800600"/>
            <a:chExt cx="1523880" cy="1143000"/>
          </a:xfrm>
        </p:grpSpPr>
        <p:sp>
          <p:nvSpPr>
            <p:cNvPr id="99" name="AutoShape 4"/>
            <p:cNvSpPr/>
            <p:nvPr/>
          </p:nvSpPr>
          <p:spPr>
            <a:xfrm>
              <a:off x="1981080" y="4800600"/>
              <a:ext cx="1523880" cy="1143000"/>
            </a:xfrm>
            <a:prstGeom prst="flowChartProcess">
              <a:avLst/>
            </a:prstGeom>
            <a:solidFill>
              <a:srgbClr val="9933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0" name="Text Box 10"/>
            <p:cNvSpPr/>
            <p:nvPr/>
          </p:nvSpPr>
          <p:spPr>
            <a:xfrm>
              <a:off x="2057040" y="518184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On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1" name="Group 22"/>
          <p:cNvGrpSpPr/>
          <p:nvPr/>
        </p:nvGrpSpPr>
        <p:grpSpPr>
          <a:xfrm>
            <a:off x="5638680" y="4800600"/>
            <a:ext cx="1523880" cy="1143000"/>
            <a:chOff x="5638680" y="4800600"/>
            <a:chExt cx="1523880" cy="1143000"/>
          </a:xfrm>
        </p:grpSpPr>
        <p:sp>
          <p:nvSpPr>
            <p:cNvPr id="102" name="AutoShape 6"/>
            <p:cNvSpPr/>
            <p:nvPr/>
          </p:nvSpPr>
          <p:spPr>
            <a:xfrm>
              <a:off x="5638680" y="4800600"/>
              <a:ext cx="1523880" cy="1143000"/>
            </a:xfrm>
            <a:prstGeom prst="flowChartProcess">
              <a:avLst/>
            </a:prstGeom>
            <a:solidFill>
              <a:srgbClr val="00ff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3" name="Text Box 13"/>
            <p:cNvSpPr/>
            <p:nvPr/>
          </p:nvSpPr>
          <p:spPr>
            <a:xfrm>
              <a:off x="5714640" y="518148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Two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4" name="Group 21"/>
          <p:cNvGrpSpPr/>
          <p:nvPr/>
        </p:nvGrpSpPr>
        <p:grpSpPr>
          <a:xfrm>
            <a:off x="3505320" y="4724280"/>
            <a:ext cx="2133000" cy="1202760"/>
            <a:chOff x="3505320" y="4724280"/>
            <a:chExt cx="2133000" cy="1202760"/>
          </a:xfrm>
        </p:grpSpPr>
        <p:grpSp>
          <p:nvGrpSpPr>
            <p:cNvPr id="105" name="Group 20"/>
            <p:cNvGrpSpPr/>
            <p:nvPr/>
          </p:nvGrpSpPr>
          <p:grpSpPr>
            <a:xfrm>
              <a:off x="3505320" y="5029200"/>
              <a:ext cx="2133000" cy="609480"/>
              <a:chOff x="3505320" y="5029200"/>
              <a:chExt cx="2133000" cy="609480"/>
            </a:xfrm>
          </p:grpSpPr>
          <p:sp>
            <p:nvSpPr>
              <p:cNvPr id="106" name="AutoShape 5"/>
              <p:cNvSpPr/>
              <p:nvPr/>
            </p:nvSpPr>
            <p:spPr>
              <a:xfrm>
                <a:off x="3962160" y="5029200"/>
                <a:ext cx="1142640" cy="609480"/>
              </a:xfrm>
              <a:prstGeom prst="flowChartDecision">
                <a:avLst/>
              </a:prstGeom>
              <a:solidFill>
                <a:srgbClr val="ffff00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7" name="Line 7"/>
              <p:cNvSpPr/>
              <p:nvPr/>
            </p:nvSpPr>
            <p:spPr>
              <a:xfrm>
                <a:off x="3505320" y="5333760"/>
                <a:ext cx="45684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8" name="Line 8"/>
              <p:cNvSpPr/>
              <p:nvPr/>
            </p:nvSpPr>
            <p:spPr>
              <a:xfrm>
                <a:off x="5105160" y="5333760"/>
                <a:ext cx="53316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109" name="Text Box 14"/>
            <p:cNvSpPr/>
            <p:nvPr/>
          </p:nvSpPr>
          <p:spPr>
            <a:xfrm>
              <a:off x="3733560" y="4724280"/>
              <a:ext cx="159984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Research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&amp;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Developmen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y selecting several AutoShapes and right-clickig, you can group them togethe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50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mbedding Vide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46483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o Play a Video in Your Slide Show, go to “Insert” and Place your Mouse Over “Movies and Sounds” then Select “Movie From File”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4" name="slide.mpg" descr=""/>
          <p:cNvPicPr/>
          <p:nvPr/>
        </p:nvPicPr>
        <p:blipFill>
          <a:blip r:embed="rId1"/>
          <a:stretch/>
        </p:blipFill>
        <p:spPr>
          <a:xfrm>
            <a:off x="5486400" y="3451320"/>
            <a:ext cx="3044880" cy="2028600"/>
          </a:xfrm>
          <a:prstGeom prst="rect">
            <a:avLst/>
          </a:prstGeom>
          <a:ln w="0">
            <a:noFill/>
          </a:ln>
        </p:spPr>
      </p:pic>
      <p:sp>
        <p:nvSpPr>
          <p:cNvPr id="115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44979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" dur="1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0T21:18:44Z</dcterms:created>
  <dc:creator>user</dc:creator>
  <dc:description/>
  <dc:language>en-US</dc:language>
  <cp:lastModifiedBy>Miral</cp:lastModifiedBy>
  <dcterms:modified xsi:type="dcterms:W3CDTF">2015-09-13T10:22:33Z</dcterms:modified>
  <cp:revision>33</cp:revision>
  <dc:subject/>
  <dc:title>Test PowerPoint FIle</dc:title>
</cp:coreProperties>
</file>