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3CD9-D57A-4C7D-ADB3-8AC2067BC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91D2F-CE0C-4B45-8A87-A3C2DF842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70F7-1E2E-4C6B-82A1-90E931CC8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B09D9-2751-4E5D-A260-CFABD66469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6F190-F6BD-4C5F-83B6-CF5CF1F5D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E2236-B415-4735-897F-7BEEE15C6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68BBA-C5A2-49FA-A6A6-7D2F58BE33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C4332-2D67-4879-8F9A-BB29E4029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2A480-3B10-44C7-A426-DE115E54A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1ECFB-379F-40FB-8EA8-21152D25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2BF55-F48C-4C98-84F2-D2E8DA2F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6F9C3-1911-43DB-90D6-39AFAC608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60ECC-C79B-4966-A65E-9583DF7E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8C81-3FD7-4D8C-A431-DDAE6528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ED566-BA60-40BA-ABE7-A54EC11A3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C13BC-D4F3-4809-8AC6-FA34EE5B1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E8AB-95DB-43B8-8913-7DF6217D9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3881-82B5-4319-AC5B-6AE2145DB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4AA1-CEF3-48C7-86EB-64EC020C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4EE7E-60F2-4545-9C14-DC50A4E02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FA0AF-13F3-42C8-841B-12F218FA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37D7-D745-4457-8742-289AC4521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D7BF-2040-4DDB-8518-ACD2E939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E0F9-29C2-4B3C-9671-1B7BF3880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0314-6ACA-4B9D-BB5E-1294F8D649FA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AE9C-6310-4868-A33C-B7DFF61A3BAD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How To Use PowerPoint</a:t>
            </a:r>
            <a:br>
              <a:rPr sz="3600"/>
            </a:b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 Brief Introduction to Commonly Used Features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Advanced AutoShape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8" name="Group 19"/>
          <p:cNvGrpSpPr/>
          <p:nvPr/>
        </p:nvGrpSpPr>
        <p:grpSpPr>
          <a:xfrm>
            <a:off x="1981080" y="4800600"/>
            <a:ext cx="1523880" cy="1143000"/>
            <a:chOff x="1981080" y="4800600"/>
            <a:chExt cx="1523880" cy="1143000"/>
          </a:xfrm>
        </p:grpSpPr>
        <p:sp>
          <p:nvSpPr>
            <p:cNvPr id="99" name="AutoShape 4"/>
            <p:cNvSpPr/>
            <p:nvPr/>
          </p:nvSpPr>
          <p:spPr>
            <a:xfrm>
              <a:off x="1981080" y="4800600"/>
              <a:ext cx="1523880" cy="1143000"/>
            </a:xfrm>
            <a:prstGeom prst="flowChartProcess">
              <a:avLst/>
            </a:prstGeom>
            <a:solidFill>
              <a:srgbClr val="9933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0" name="Text Box 10"/>
            <p:cNvSpPr/>
            <p:nvPr/>
          </p:nvSpPr>
          <p:spPr>
            <a:xfrm>
              <a:off x="2057040" y="518184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One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1" name="Group 22"/>
          <p:cNvGrpSpPr/>
          <p:nvPr/>
        </p:nvGrpSpPr>
        <p:grpSpPr>
          <a:xfrm>
            <a:off x="5638680" y="4800600"/>
            <a:ext cx="1523880" cy="1143000"/>
            <a:chOff x="5638680" y="4800600"/>
            <a:chExt cx="1523880" cy="1143000"/>
          </a:xfrm>
        </p:grpSpPr>
        <p:sp>
          <p:nvSpPr>
            <p:cNvPr id="102" name="AutoShape 6"/>
            <p:cNvSpPr/>
            <p:nvPr/>
          </p:nvSpPr>
          <p:spPr>
            <a:xfrm>
              <a:off x="5638680" y="4800600"/>
              <a:ext cx="1523880" cy="1143000"/>
            </a:xfrm>
            <a:prstGeom prst="flowChartProcess">
              <a:avLst/>
            </a:prstGeom>
            <a:solidFill>
              <a:srgbClr val="00ff00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Text Box 13"/>
            <p:cNvSpPr/>
            <p:nvPr/>
          </p:nvSpPr>
          <p:spPr>
            <a:xfrm>
              <a:off x="5714640" y="518148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hase Tw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4" name="Group 21"/>
          <p:cNvGrpSpPr/>
          <p:nvPr/>
        </p:nvGrpSpPr>
        <p:grpSpPr>
          <a:xfrm>
            <a:off x="3505320" y="4724280"/>
            <a:ext cx="2133000" cy="1202760"/>
            <a:chOff x="3505320" y="4724280"/>
            <a:chExt cx="2133000" cy="1202760"/>
          </a:xfrm>
        </p:grpSpPr>
        <p:grpSp>
          <p:nvGrpSpPr>
            <p:cNvPr id="105" name="Group 20"/>
            <p:cNvGrpSpPr/>
            <p:nvPr/>
          </p:nvGrpSpPr>
          <p:grpSpPr>
            <a:xfrm>
              <a:off x="3505320" y="5029200"/>
              <a:ext cx="2133000" cy="609480"/>
              <a:chOff x="3505320" y="5029200"/>
              <a:chExt cx="2133000" cy="609480"/>
            </a:xfrm>
          </p:grpSpPr>
          <p:sp>
            <p:nvSpPr>
              <p:cNvPr id="106" name="AutoShape 5"/>
              <p:cNvSpPr/>
              <p:nvPr/>
            </p:nvSpPr>
            <p:spPr>
              <a:xfrm>
                <a:off x="3962160" y="5029200"/>
                <a:ext cx="1142640" cy="609480"/>
              </a:xfrm>
              <a:prstGeom prst="flowChartDecision">
                <a:avLst/>
              </a:prstGeom>
              <a:solidFill>
                <a:srgbClr val="ffff00"/>
              </a:solidFill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7" name="Line 7"/>
              <p:cNvSpPr/>
              <p:nvPr/>
            </p:nvSpPr>
            <p:spPr>
              <a:xfrm>
                <a:off x="3505320" y="5333760"/>
                <a:ext cx="4568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8" name="Line 8"/>
              <p:cNvSpPr/>
              <p:nvPr/>
            </p:nvSpPr>
            <p:spPr>
              <a:xfrm>
                <a:off x="5105160" y="5333760"/>
                <a:ext cx="5331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sp>
          <p:nvSpPr>
            <p:cNvPr id="109" name="Text Box 14"/>
            <p:cNvSpPr/>
            <p:nvPr/>
          </p:nvSpPr>
          <p:spPr>
            <a:xfrm>
              <a:off x="3733560" y="4724280"/>
              <a:ext cx="1599840" cy="120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Research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&amp;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3366"/>
                  </a:solidFill>
                  <a:latin typeface="Arial"/>
                </a:rPr>
                <a:t>Development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y selecting several AutoShapes and right-clickig, you can group them togethe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500"/>
                            </p:stCondLst>
                            <p:childTnLst>
                              <p:par>
                                <p:cTn id="1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Embedding Video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4648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o Play a Video in Your Slide Show, go to “Insert” and Place your Mouse Over “Movies and Sounds” then Select “Movie From File”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14" name="slide.mpg" descr=""/>
          <p:cNvPicPr/>
          <p:nvPr/>
        </p:nvPicPr>
        <p:blipFill>
          <a:blip r:embed="rId1"/>
          <a:stretch/>
        </p:blipFill>
        <p:spPr>
          <a:xfrm>
            <a:off x="5486400" y="3451320"/>
            <a:ext cx="3044880" cy="2028600"/>
          </a:xfrm>
          <a:prstGeom prst="rect">
            <a:avLst/>
          </a:prstGeom>
          <a:ln w="0">
            <a:noFill/>
          </a:ln>
        </p:spPr>
      </p:pic>
      <p:sp>
        <p:nvSpPr>
          <p:cNvPr id="115" name="FlagCount" hidden="1"/>
          <p:cNvSpPr/>
          <p:nvPr/>
        </p:nvSpPr>
        <p:spPr>
          <a:xfrm>
            <a:off x="8255160" y="254160"/>
            <a:ext cx="380880" cy="3175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33cccc">
              <a:alpha val="25000"/>
            </a:srgbClr>
          </a:solidFill>
          <a:ln w="1908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" dur="44979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25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" dur="1" fill="hold"/>
                                        <p:tgtEl>
                                          <p:spTgt spid="1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0T21:18:44Z</dcterms:created>
  <dc:creator>user</dc:creator>
  <dc:description/>
  <dc:language>en-US</dc:language>
  <cp:lastModifiedBy>Miral</cp:lastModifiedBy>
  <dcterms:modified xsi:type="dcterms:W3CDTF">2015-09-13T10:22:33Z</dcterms:modified>
  <cp:revision>33</cp:revision>
  <dc:subject/>
  <dc:title>Test PowerPoint FIle</dc:title>
</cp:coreProperties>
</file>